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FBE6-1421-4E71-916D-C2B32DAD5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A8BC-43D7-4B77-99E9-404667B7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600-4540-4D6C-9734-0BACA08A3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A596-8F9C-466F-AF11-D726FC44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D4CF-4CD9-4ABA-91AA-19474C9F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904-7A47-46C8-85AD-5FED5449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64C4-0509-4E54-83BD-63001C7E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9FC6-42D9-47FE-8720-484CAE75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09120" y="6854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43E3-C2B6-4728-826A-76628797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54E9-00A4-4DB5-895E-C948D487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CDD6-B1D6-46D8-A28C-9B8B2666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F65E-0FF7-4640-A6CF-F276854A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653760" indent="-251280">
              <a:spcBef>
                <a:spcPts val="9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2" marL="10058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3" marL="1407960" indent="-200880">
              <a:spcBef>
                <a:spcPts val="901"/>
              </a:spcBef>
              <a:buClr>
                <a:srgbClr val="000066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4" marL="1810440" indent="-200880">
              <a:spcBef>
                <a:spcPts val="901"/>
              </a:spcBef>
              <a:buClr>
                <a:srgbClr val="99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5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6" marL="1810440" indent="-200880">
              <a:spcBef>
                <a:spcPts val="901"/>
              </a:spcBef>
              <a:buClr>
                <a:srgbClr val="000000"/>
              </a:buClr>
              <a:buFont typeface="Symbol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7163-6F22-468A-AD76-307D520316E2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b-NO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94CB-8B64-4CFC-B406-47FBEB91F3DB}" type="slidenum">
              <a:rPr b="0" lang="nb-NO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nbflogo" descr=""/>
          <p:cNvPicPr/>
          <p:nvPr/>
        </p:nvPicPr>
        <p:blipFill>
          <a:blip r:embed="rId2"/>
          <a:stretch/>
        </p:blipFill>
        <p:spPr>
          <a:xfrm>
            <a:off x="7888320" y="685800"/>
            <a:ext cx="493560" cy="7192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772400" y="1371600"/>
            <a:ext cx="82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200" spc="-1" strike="noStrike">
                <a:solidFill>
                  <a:srgbClr val="000000"/>
                </a:solidFill>
                <a:latin typeface="Times New Roman"/>
              </a:rPr>
              <a:t>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LU veileder om forklaring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990000"/>
                </a:solidFill>
                <a:latin typeface="Times New Roman"/>
              </a:rPr>
              <a:t>Kurs for turneringsledere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990000"/>
                </a:solidFill>
                <a:latin typeface="Times New Roman"/>
              </a:rPr>
              <a:t>Trondheim 3-5 mai 2002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0BA3-B301-4474-B30F-7590EAB87B81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BE06A8-E6E1-42AF-AB41-5CFF59502B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Korreksjon av forklaring</a:t>
            </a:r>
            <a:r>
              <a:rPr b="1" lang="nb-NO" sz="4400" spc="-1" strike="noStrike">
                <a:solidFill>
                  <a:srgbClr val="000066"/>
                </a:solidFill>
                <a:latin typeface="Times New Roman"/>
              </a:rPr>
              <a:t>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En spiller som hører sin makker gi en forklaring som avviker fra egen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forståelse av makkeravtalen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,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er pålagt å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korrigere forklaringen. 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(i rett tid)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Korreksjon kan unnlates bare når spilleren blir oppmerksom på at han selv etter avtalen har meldt feil og han kan godtgjøre dette på stede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Når makkeravtalen ikke kan dokumenteres så er regelen at melderens forståelse av avtalen er den rette og at forklaringen er feil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BA60-4A14-4277-817C-EDDD65D52A9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B21E7E-5A90-4761-B389-5057216FF7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Times New Roman"/>
              </a:rPr>
              <a:t>Rett til forklaring</a:t>
            </a:r>
            <a:r>
              <a:rPr b="1" lang="nb-NO" sz="4400" spc="-1" strike="noStrike">
                <a:solidFill>
                  <a:srgbClr val="000066"/>
                </a:solidFill>
                <a:latin typeface="Times New Roman"/>
              </a:rPr>
              <a:t>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800" spc="-1" strike="noStrike">
                <a:solidFill>
                  <a:srgbClr val="990000"/>
                </a:solidFill>
                <a:latin typeface="Arial"/>
                <a:ea typeface="Arial"/>
              </a:rPr>
              <a:t>§ 75 </a:t>
            </a:r>
            <a:r>
              <a:rPr b="1" lang="en-GB" sz="2800" spc="-1" strike="noStrike">
                <a:solidFill>
                  <a:srgbClr val="990000"/>
                </a:solidFill>
                <a:latin typeface="Arial"/>
                <a:ea typeface="Arial"/>
              </a:rPr>
              <a:t>A SPESIELLE MAKKERAVTALER</a:t>
            </a:r>
            <a:br>
              <a:rPr sz="3200"/>
            </a:br>
            <a:r>
              <a:rPr b="0" lang="en-GB" sz="3200" spc="-1" strike="noStrike">
                <a:solidFill>
                  <a:srgbClr val="990000"/>
                </a:solidFill>
                <a:latin typeface="Arial"/>
                <a:ea typeface="Arial"/>
              </a:rPr>
              <a:t>Spesielle makkeravtaler må være fullstendig og ubetinget tilgjengelige for motstanderne (se </a:t>
            </a:r>
            <a:r>
              <a:rPr b="0" lang="nb-NO" sz="3200" spc="-1" strike="noStrike">
                <a:solidFill>
                  <a:srgbClr val="990000"/>
                </a:solidFill>
                <a:latin typeface="Arial"/>
                <a:ea typeface="Arial"/>
              </a:rPr>
              <a:t>§ 40</a:t>
            </a:r>
            <a:r>
              <a:rPr b="0" lang="en-GB" sz="3200" spc="-1" strike="noStrike">
                <a:solidFill>
                  <a:srgbClr val="990000"/>
                </a:solidFill>
                <a:latin typeface="Arial"/>
                <a:ea typeface="Arial"/>
              </a:rPr>
              <a:t>),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uansett om de er klart avtalt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66"/>
                </a:solidFill>
                <a:latin typeface="Arial"/>
                <a:ea typeface="Arial"/>
              </a:rPr>
              <a:t>eller underforståtte.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00"/>
                </a:solidFill>
                <a:latin typeface="Arial"/>
                <a:ea typeface="Arial"/>
              </a:rPr>
              <a:t>Den informasjon som formidles til makker gjennom slike avtaler må kun formidles gjennom meldinger, spill og betingelsene for den aktuelle giv.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28B-63E3-4F7B-BEFC-A1F38E4C6F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F2818-881A-4823-B2CB-CDD81A7FA9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Rett til forklaring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En spiller har rett til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Å se på motpartens systemkor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Å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be om å få forklart meldinger</a:t>
            </a:r>
            <a:r>
              <a:rPr b="0" lang="en-GB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når det er hans tur til å melde eller spille.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(§20, 40)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Spørsmålet bør holdes i en nøytral form som ikke formidler urettmessig informasjon til makker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Det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er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 uetisk å spørre for å henlede makkers oppmerksomhet på noe en selv vet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Dette kan straffes som urettmessig informasjon</a:t>
            </a: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 fra makker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EBEF-C56B-4118-A7A2-EECD11B6DE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A51E8-6914-400B-83C7-AA61B6782B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va skal forklares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En forklaring skal innholde opplysning om hva meldinger betyr etter parets makkeravtale.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En makkeravtale omfatter ikke bare eksplisitt avtalte situasjoner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men også felles forståelse opparbeidet gjennom makkerskap eller tilhold i samme miljø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ersom det ikke er noen makkeravtale, har motparten bare krav på informasjon om dett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Times New Roman"/>
              </a:rPr>
              <a:t>Vel etablerte par bør være varsom</a:t>
            </a:r>
            <a:r>
              <a:rPr b="1" lang="nb-NO" sz="1600" spc="-1" strike="noStrike">
                <a:solidFill>
                  <a:srgbClr val="990000"/>
                </a:solidFill>
                <a:latin typeface="Times New Roman"/>
              </a:rPr>
              <a:t>me</a:t>
            </a:r>
            <a:r>
              <a:rPr b="1" lang="en-GB" sz="1600" spc="-1" strike="noStrike">
                <a:solidFill>
                  <a:srgbClr val="990000"/>
                </a:solidFill>
                <a:latin typeface="Times New Roman"/>
              </a:rPr>
              <a:t> med å påberope seg ikke-avtale.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Dersom en spiller forsøker å forklare en melding når det ikke er noen avtale,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så er det lett å komme i skade for å gi feil forklaring til motparten og samtidig urettmessig informasjon til makk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955-9602-405F-A13D-5D9B9157C5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ACF4FE-035F-40C3-9260-680B7F013C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6858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Hvordan forklar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En forklaring bør fokusere på hva makkers melding viser at han </a:t>
            </a:r>
            <a:r>
              <a:rPr b="1" i="1" lang="en-GB" sz="2400" spc="-1" strike="noStrike">
                <a:solidFill>
                  <a:srgbClr val="990000"/>
                </a:solidFill>
                <a:latin typeface="Times New Roman"/>
              </a:rPr>
              <a:t>har</a:t>
            </a:r>
            <a:r>
              <a:rPr b="0" i="1" lang="en-GB" sz="2400" spc="-1" strike="noStrike">
                <a:solidFill>
                  <a:srgbClr val="990000"/>
                </a:solidFill>
                <a:latin typeface="Times New Roman"/>
              </a:rPr>
              <a:t>. </a:t>
            </a: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Til dette er det  mest hensiktsmessig å bruke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tall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for fargelengder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honnørpoeng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spillestikk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tapere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eller andre størrelser som inngår i systemdefinisjonen, avtalen eller deres felles forståelse.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Times New Roman"/>
              </a:rPr>
              <a:t>Det er lite opplysende å bruke ord som</a:t>
            </a:r>
            <a:r>
              <a:rPr b="0" i="1" lang="en-GB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har åpning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, 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sperrebeton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t eller</a:t>
            </a:r>
            <a:r>
              <a:rPr b="1" i="1" lang="en-GB" sz="2000" spc="-1" strike="noStrike">
                <a:solidFill>
                  <a:srgbClr val="000066"/>
                </a:solidFill>
                <a:latin typeface="Times New Roman"/>
              </a:rPr>
              <a:t> spillemelding</a:t>
            </a:r>
            <a:r>
              <a:rPr b="1" lang="en-GB" sz="20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00"/>
                </a:solidFill>
                <a:latin typeface="Times New Roman"/>
              </a:rPr>
              <a:t>Det er også viktig at forklaringen i form viser respekt for at motparten kanskje har en annen sjargong eller kommer fra et bridgemiljø med et annet tankesett.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0C7-2B4E-4118-B715-0A16B80A19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F2B12-6738-45A9-B252-5D1CC261A3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OM HUK konvensjoner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eldingene skal være mest mulig veldefinerte, F.eks 1♥ - D - 1♠ alert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eldingen sier ingenting om sparfargen, og meldingen er krav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Forsvarsforslaget skal være på vedlegget til systemkortet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Motspillerne kan studere forsvaret under hele meldingsforløpet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Det er ikke nok å si hvilken gruppe HUK meldingen tilhører).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F88C-1469-437C-8F70-F841117DEC3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1B415-7414-434F-9013-45455BDEF3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Når en  ikke kan svare på spørsmå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l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§20 F1 sier 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”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svar på spørsmål om makkeravtaler bør normalt gis av makkeren til den spilleren som har avgitt den aktuelle meldingen</a:t>
            </a:r>
            <a:r>
              <a:rPr b="0" lang="nb-NO" sz="2800" spc="-1" strike="noStrike">
                <a:solidFill>
                  <a:srgbClr val="990000"/>
                </a:solidFill>
                <a:latin typeface="Times New Roman"/>
              </a:rPr>
              <a:t>”</a:t>
            </a:r>
            <a:r>
              <a:rPr b="0" lang="en-GB" sz="2800" spc="-1" strike="noStrike">
                <a:solidFill>
                  <a:srgbClr val="99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Hvis denne spilleren har glemt avtalen så kan TL ta spilleren bort fra bordet og la den som har avgitt meldingen forklare makkeravtalen. 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(Han har i så fall ingen plikt til å avsløre en bløff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Merk at selv opplysningen om glemt avtale kan bli dømt som </a:t>
            </a:r>
            <a:r>
              <a:rPr b="0" lang="nb-NO" sz="2400" spc="-1" strike="noStrike">
                <a:solidFill>
                  <a:srgbClr val="000066"/>
                </a:solidFill>
                <a:latin typeface="Times New Roman"/>
              </a:rPr>
              <a:t>UI</a:t>
            </a: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4946-9463-48C2-8A2B-3131296B4A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021D35-62D2-44D2-A03C-637C2EF7ED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Når en  ikke kan svare på spørsmå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l I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990000"/>
                </a:solidFill>
                <a:latin typeface="Times New Roman"/>
              </a:rPr>
              <a:t>Når det ikke er noen makkeravtale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Det er klare krav til ikke-avta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b-NO" sz="2000" spc="-1" strike="noStrike">
                <a:solidFill>
                  <a:srgbClr val="990000"/>
                </a:solidFill>
                <a:latin typeface="Times New Roman"/>
              </a:rPr>
              <a:t>Makkerpar med 2-300 spill bak seg har ”avtaler” om det aller meste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Motstanderne har bare krav på opplysning om ikke-avtal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Det er alltid UI til makker å si hva en tror det 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66"/>
                </a:solidFill>
                <a:latin typeface="Times New Roman"/>
              </a:rPr>
              <a:t>Motparten har ikke rett til å vite hvilken tolkning som er grunnlaget for svarerens senere meldinger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4794-138A-490E-B4CD-5D040C1740A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B6B32-21CC-46F8-82B0-9A8AE533CC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66"/>
                </a:solidFill>
                <a:latin typeface="Times New Roman"/>
              </a:rPr>
              <a:t>Korreksjon av forklaring</a:t>
            </a:r>
            <a:r>
              <a:rPr b="0" lang="nb-NO" sz="4400" spc="-1" strike="noStrike">
                <a:solidFill>
                  <a:srgbClr val="000066"/>
                </a:solidFill>
                <a:latin typeface="Times New Roman"/>
              </a:rPr>
              <a:t> I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Font typeface="Symbol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990000"/>
                </a:solidFill>
                <a:latin typeface="Times New Roman"/>
              </a:rPr>
              <a:t>Spillerne har plikt til å korrigere makkers feil forklaring</a:t>
            </a:r>
            <a:endParaRPr b="0" lang="en-US" sz="36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66"/>
                </a:solidFill>
                <a:latin typeface="Times New Roman"/>
              </a:rPr>
              <a:t>Spillefører og blindemann 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Etter avsluttende pass og før åpningsutspillet blir snudd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Symbol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66"/>
                </a:solidFill>
                <a:latin typeface="Times New Roman"/>
              </a:rPr>
              <a:t>Motspill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Font typeface="Symbol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990000"/>
                </a:solidFill>
                <a:latin typeface="Times New Roman"/>
              </a:rPr>
              <a:t>Etter at spillet er slut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U veileder om forklaringer                      Per Nordlan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BE9-F534-4E93-AF1A-1CBCA0F9776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E649A7-2DFA-464A-910A-584E994263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0T14:54:29Z</dcterms:created>
  <dc:creator>Per Nordland</dc:creator>
  <dc:description/>
  <dc:language>en-US</dc:language>
  <cp:lastModifiedBy>Per Nordland</cp:lastModifiedBy>
  <dcterms:modified xsi:type="dcterms:W3CDTF">2002-05-17T19:40:10Z</dcterms:modified>
  <cp:revision>5</cp:revision>
  <dc:subject/>
  <dc:title>LU veileder om forklaringer</dc:title>
</cp:coreProperties>
</file>